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9.wmf" ContentType="image/x-wmf"/>
  <Override PartName="/ppt/media/image8.wmf" ContentType="image/x-wmf"/>
  <Override PartName="/ppt/media/image7.wmf" ContentType="image/x-wmf"/>
  <Override PartName="/ppt/media/image6.wmf" ContentType="image/x-wmf"/>
  <Override PartName="/ppt/media/image3.wmf" ContentType="image/x-wmf"/>
  <Override PartName="/ppt/media/image4.wmf" ContentType="image/x-wmf"/>
  <Override PartName="/ppt/media/PROJCTOR.WAV" ContentType="audio/x-wav"/>
  <Override PartName="/ppt/media/image15.wmf" ContentType="image/x-wmf"/>
  <Override PartName="/ppt/media/image13.wmf" ContentType="image/x-wmf"/>
  <Override PartName="/ppt/media/image16.wmf" ContentType="image/x-wmf"/>
  <Override PartName="/ppt/media/WHOOSH.WAV" ContentType="audio/x-wav"/>
  <Override PartName="/ppt/media/CHIMES.WAV" ContentType="audio/x-wav"/>
  <Override PartName="/ppt/media/image11.wmf" ContentType="image/x-wmf"/>
  <Override PartName="/ppt/media/image12.wmf" ContentType="image/x-wmf"/>
  <Override PartName="/ppt/media/image2.wmf" ContentType="image/x-wmf"/>
  <Override PartName="/ppt/media/image5.wmf" ContentType="image/x-wmf"/>
  <Override PartName="/ppt/media/image10.wmf" ContentType="image/x-wmf"/>
  <Override PartName="/ppt/media/image14.wmf" ContentType="image/x-wmf"/>
  <Override PartName="/ppt/media/LASER.WAV" ContentType="audio/x-wav"/>
  <Override PartName="/ppt/media/CAMERA.WAV" ContentType="audio/x-wav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7785-ECB3-46E9-8D56-6B3D39EA1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DC41-1AEC-4FC9-8000-72352BB55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5951-69F7-41D7-8F49-1C6A272C2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C283-5AF1-4000-A6FB-97DE46FB0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9FB2-B9AE-43FA-9F36-0D961517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87AB-CEA1-445F-BB43-0EE962F51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1B62-AC49-464B-9572-7D3781676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A96A-AF6B-478A-9F1F-9E7DB4EB7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C06E-E3DA-40DF-8C9B-D0DBC9D0F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5B06-0D52-44B4-8487-1F56D9DA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7C4C-067E-4171-9356-F3540E6F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24AB-25B2-4C4B-9F0D-2C5248D8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02809-C74D-4E52-9B87-410D4B958F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PROJCTOR.WAV"/><Relationship Id="rId13" Type="http://schemas.openxmlformats.org/officeDocument/2006/relationships/audio" Target="../media/LASER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audio" Target="../media/PROJCTOR.WAV"/><Relationship Id="rId6" Type="http://schemas.openxmlformats.org/officeDocument/2006/relationships/audio" Target="../media/LASER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PROJCTOR.WAV"/><Relationship Id="rId10" Type="http://schemas.openxmlformats.org/officeDocument/2006/relationships/audio" Target="../media/LASER.WAV"/><Relationship Id="rId11" Type="http://schemas.openxmlformats.org/officeDocument/2006/relationships/audio" Target="../media/CAMERA.WAV"/><Relationship Id="rId12" Type="http://schemas.openxmlformats.org/officeDocument/2006/relationships/audio" Target="../media/LASER.WAV"/><Relationship Id="rId13" Type="http://schemas.openxmlformats.org/officeDocument/2006/relationships/audio" Target="../media/CAMERA.WAV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audio" Target="../media/PROJCTOR.WAV"/><Relationship Id="rId10" Type="http://schemas.openxmlformats.org/officeDocument/2006/relationships/audio" Target="../media/LASER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PROJCTOR.WAV"/><Relationship Id="rId14" Type="http://schemas.openxmlformats.org/officeDocument/2006/relationships/audio" Target="../media/LASER.WAV"/><Relationship Id="rId15" Type="http://schemas.openxmlformats.org/officeDocument/2006/relationships/audio" Target="../media/CAMERA.WAV"/><Relationship Id="rId16" Type="http://schemas.openxmlformats.org/officeDocument/2006/relationships/audio" Target="../media/CAMERA.WAV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2.wmf"/><Relationship Id="rId15" Type="http://schemas.openxmlformats.org/officeDocument/2006/relationships/audio" Target="../media/PROJCTOR.WAV"/><Relationship Id="rId16" Type="http://schemas.openxmlformats.org/officeDocument/2006/relationships/audio" Target="../media/CHIMES.WAV"/><Relationship Id="rId17" Type="http://schemas.openxmlformats.org/officeDocument/2006/relationships/audio" Target="../media/WHOOSH.WAV"/><Relationship Id="rId18" Type="http://schemas.openxmlformats.org/officeDocument/2006/relationships/audio" Target="../media/WHOOSH.WAV"/><Relationship Id="rId19" Type="http://schemas.openxmlformats.org/officeDocument/2006/relationships/audio" Target="../media/WHOOSH.WAV"/><Relationship Id="rId20" Type="http://schemas.openxmlformats.org/officeDocument/2006/relationships/audio" Target="../media/LASER.WAV"/><Relationship Id="rId21" Type="http://schemas.openxmlformats.org/officeDocument/2006/relationships/audio" Target="../media/WHOOSH.WAV"/><Relationship Id="rId22" Type="http://schemas.openxmlformats.org/officeDocument/2006/relationships/audio" Target="../media/LASER.WAV"/><Relationship Id="rId23" Type="http://schemas.openxmlformats.org/officeDocument/2006/relationships/audio" Target="../media/WHOOSH.WAV"/><Relationship Id="rId24" Type="http://schemas.openxmlformats.org/officeDocument/2006/relationships/audio" Target="../media/WHOOSH.WAV"/><Relationship Id="rId25" Type="http://schemas.openxmlformats.org/officeDocument/2006/relationships/audio" Target="../media/WHOOSH.WAV"/><Relationship Id="rId26" Type="http://schemas.openxmlformats.org/officeDocument/2006/relationships/audio" Target="../media/WHOOSH.WAV"/><Relationship Id="rId27" Type="http://schemas.openxmlformats.org/officeDocument/2006/relationships/audio" Target="../media/WHOOSH.WAV"/><Relationship Id="rId28" Type="http://schemas.openxmlformats.org/officeDocument/2006/relationships/audio" Target="../media/WHOOSH.WAV"/><Relationship Id="rId29" Type="http://schemas.openxmlformats.org/officeDocument/2006/relationships/audio" Target="../media/WHOOSH.WAV"/><Relationship Id="rId30" Type="http://schemas.openxmlformats.org/officeDocument/2006/relationships/audio" Target="../media/WHOOSH.WAV"/><Relationship Id="rId31" Type="http://schemas.openxmlformats.org/officeDocument/2006/relationships/audio" Target="../media/WHOOSH.WAV"/><Relationship Id="rId32" Type="http://schemas.openxmlformats.org/officeDocument/2006/relationships/audio" Target="../media/WHOOSH.WAV"/><Relationship Id="rId33" Type="http://schemas.openxmlformats.org/officeDocument/2006/relationships/audio" Target="../media/WHOOSH.WAV"/><Relationship Id="rId34" Type="http://schemas.openxmlformats.org/officeDocument/2006/relationships/audio" Target="../media/WHOOSH.WAV"/><Relationship Id="rId35" Type="http://schemas.openxmlformats.org/officeDocument/2006/relationships/audio" Target="../media/WHOOSH.WAV"/><Relationship Id="rId3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6.wmf"/><Relationship Id="rId15" Type="http://schemas.openxmlformats.org/officeDocument/2006/relationships/audio" Target="../media/WHOOSH.WAV"/><Relationship Id="rId16" Type="http://schemas.openxmlformats.org/officeDocument/2006/relationships/audio" Target="../media/WHOOSH.WAV"/><Relationship Id="rId17" Type="http://schemas.openxmlformats.org/officeDocument/2006/relationships/audio" Target="../media/WHOOSH.WAV"/><Relationship Id="rId18" Type="http://schemas.openxmlformats.org/officeDocument/2006/relationships/audio" Target="../media/LASER.WAV"/><Relationship Id="rId19" Type="http://schemas.openxmlformats.org/officeDocument/2006/relationships/audio" Target="../media/WHOOSH.WAV"/><Relationship Id="rId20" Type="http://schemas.openxmlformats.org/officeDocument/2006/relationships/audio" Target="../media/LASER.WAV"/><Relationship Id="rId21" Type="http://schemas.openxmlformats.org/officeDocument/2006/relationships/audio" Target="../media/WHOOSH.WAV"/><Relationship Id="rId22" Type="http://schemas.openxmlformats.org/officeDocument/2006/relationships/audio" Target="../media/WHOOSH.WAV"/><Relationship Id="rId23" Type="http://schemas.openxmlformats.org/officeDocument/2006/relationships/audio" Target="../media/WHOOSH.WAV"/><Relationship Id="rId24" Type="http://schemas.openxmlformats.org/officeDocument/2006/relationships/audio" Target="../media/WHOOSH.WAV"/><Relationship Id="rId25" Type="http://schemas.openxmlformats.org/officeDocument/2006/relationships/audio" Target="../media/WHOOSH.WAV"/><Relationship Id="rId26" Type="http://schemas.openxmlformats.org/officeDocument/2006/relationships/audio" Target="../media/WHOOSH.WAV"/><Relationship Id="rId27" Type="http://schemas.openxmlformats.org/officeDocument/2006/relationships/audio" Target="../media/WHOOSH.WAV"/><Relationship Id="rId28" Type="http://schemas.openxmlformats.org/officeDocument/2006/relationships/audio" Target="../media/WHOOSH.WAV"/><Relationship Id="rId29" Type="http://schemas.openxmlformats.org/officeDocument/2006/relationships/audio" Target="../media/WHOOSH.WAV"/><Relationship Id="rId30" Type="http://schemas.openxmlformats.org/officeDocument/2006/relationships/audio" Target="../media/WHOOSH.WAV"/><Relationship Id="rId31" Type="http://schemas.openxmlformats.org/officeDocument/2006/relationships/audio" Target="../media/WHOOSH.WAV"/><Relationship Id="rId32" Type="http://schemas.openxmlformats.org/officeDocument/2006/relationships/audio" Target="../media/WHOOSH.WAV"/><Relationship Id="rId33" Type="http://schemas.openxmlformats.org/officeDocument/2006/relationships/audio" Target="../media/WHOOSH.WAV"/><Relationship Id="rId3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85800"/>
            <a:ext cx="975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 the verbal phrase as an algebraic expres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828800" y="2209680"/>
          <a:ext cx="1001880" cy="155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209680"/>
                    <a:ext cx="1001880" cy="15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2801880" y="2647800"/>
                <a:ext cx="93816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6" name=""/>
          <p:cNvGraphicFramePr/>
          <p:nvPr/>
        </p:nvGraphicFramePr>
        <p:xfrm>
          <a:off x="2057400" y="4648320"/>
          <a:ext cx="498600" cy="49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4648320"/>
                    <a:ext cx="498600" cy="4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2558880" y="4557600"/>
                <a:ext cx="81756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914400" y="1295280"/>
            <a:ext cx="975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Eight less than half of a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10400" y="129528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683080" y="1295280"/>
            <a:ext cx="1148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th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swi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16960" y="1295280"/>
            <a:ext cx="892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m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3886200"/>
            <a:ext cx="975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A number decreased by f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92760" y="3886200"/>
            <a:ext cx="167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ecrea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85800"/>
            <a:ext cx="975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 the verbal phrase as an algebraic expres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2516040" y="2351160"/>
                <a:ext cx="72252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8" name=""/>
          <p:cNvGraphicFramePr/>
          <p:nvPr/>
        </p:nvGraphicFramePr>
        <p:xfrm>
          <a:off x="3124080" y="2438280"/>
          <a:ext cx="53352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2438280"/>
                    <a:ext cx="5335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2876400" y="5118120"/>
                <a:ext cx="6066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61" name=""/>
          <p:cNvGraphicFramePr/>
          <p:nvPr/>
        </p:nvGraphicFramePr>
        <p:xfrm>
          <a:off x="3402000" y="5203800"/>
          <a:ext cx="912960" cy="59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02000" y="5203800"/>
                    <a:ext cx="91296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914400" y="1295280"/>
            <a:ext cx="975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Product of ten and a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63600" y="1295280"/>
            <a:ext cx="1467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multip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66680" y="3886200"/>
            <a:ext cx="975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Seven squared increased by a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9480" y="3886200"/>
            <a:ext cx="149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qua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735360" y="3886200"/>
            <a:ext cx="162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increa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ad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685800"/>
            <a:ext cx="975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 the verbal phrase as an algebraic expres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276720" y="2590920"/>
          <a:ext cx="75564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590920"/>
                    <a:ext cx="7556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124080" y="1676520"/>
          <a:ext cx="974880" cy="166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1676520"/>
                    <a:ext cx="974880" cy="16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2895480" y="5257800"/>
          <a:ext cx="498600" cy="495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95480" y="5257800"/>
                    <a:ext cx="49860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3352680" y="5105520"/>
          <a:ext cx="912960" cy="64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52680" y="5105520"/>
                    <a:ext cx="91296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914400" y="1295280"/>
            <a:ext cx="975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 Quotient of a number and sixt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97080" y="1295280"/>
            <a:ext cx="1524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Quot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div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f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3886200"/>
            <a:ext cx="975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Difference of a number and t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50440" y="3886200"/>
            <a:ext cx="175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Dif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sub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3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7621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rite a verbal model, assign labels and write an algebraic mod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hen use mental math to solve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152388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Times New Roman"/>
              </a:rPr>
              <a:t>7. The student government is selling baseball hats at $8 each. The group wants to raise $2480. How many hats does the group need to se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581280" y="3352680"/>
          <a:ext cx="400320" cy="4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3352680"/>
                    <a:ext cx="4003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2514600" y="5638680"/>
          <a:ext cx="51444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5638680"/>
                    <a:ext cx="5144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0" y="3048120"/>
            <a:ext cx="152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Verbal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048120"/>
            <a:ext cx="175284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Cost per 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3048120"/>
            <a:ext cx="175248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Number of h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5743440" y="3375000"/>
          <a:ext cx="581040" cy="468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43440" y="3375000"/>
                    <a:ext cx="58104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6324480" y="3048120"/>
            <a:ext cx="243864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Total money rai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41148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Labe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3880" y="41148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Cost per 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181480" y="41148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= 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457200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Number of h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45720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= </a:t>
            </a: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51055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Total money rai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51055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= 248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895480" y="5715000"/>
          <a:ext cx="514440" cy="569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95480" y="5715000"/>
                    <a:ext cx="51444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3352680" y="5562720"/>
          <a:ext cx="571680" cy="742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52680" y="5562720"/>
                    <a:ext cx="571680" cy="74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3886200" y="5638680"/>
          <a:ext cx="2141640" cy="684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86200" y="5638680"/>
                    <a:ext cx="214164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2362320" y="6114960"/>
          <a:ext cx="3589200" cy="743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362320" y="6114960"/>
                    <a:ext cx="358920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7621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rite a verbal model, assign labels and write an algebraic mod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43000" y="11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hen use mental math to solve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1523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Times New Roman"/>
              </a:rPr>
              <a:t>8. You and your two sisters bought a gift for your brother. You paid $7.50 for your share (one-third of the gift). What was the total cost of the gif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581280" y="3352680"/>
          <a:ext cx="400320" cy="4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3352680"/>
                    <a:ext cx="4003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533520" y="5334120"/>
          <a:ext cx="546120" cy="152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5334120"/>
                    <a:ext cx="5461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0" y="3048120"/>
            <a:ext cx="152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Verbal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52480" y="3048120"/>
            <a:ext cx="175284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Part you pa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62520" y="3048120"/>
            <a:ext cx="205740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Total cost of g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095880" y="3352680"/>
          <a:ext cx="581040" cy="468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5880" y="3352680"/>
                    <a:ext cx="58104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6705720" y="3048120"/>
            <a:ext cx="220968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Amount you pa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1148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Labe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41148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Part you pa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81480" y="41148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= 1/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23880" y="45720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Total cost of g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81480" y="45720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= </a:t>
            </a: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23880" y="51055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Amount you pa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181480" y="51055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= 7.5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990720" y="5791320"/>
          <a:ext cx="514080" cy="569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90720" y="5791320"/>
                    <a:ext cx="51408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415880" y="5715000"/>
          <a:ext cx="636840" cy="743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15880" y="5715000"/>
                    <a:ext cx="63684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2021040" y="5715000"/>
          <a:ext cx="1909440" cy="684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21040" y="5715000"/>
                    <a:ext cx="190944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4956120" y="5629320"/>
          <a:ext cx="3125880" cy="915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956120" y="5629320"/>
                    <a:ext cx="3125880" cy="9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5T23:09:27Z</dcterms:created>
  <dc:creator>Don Helms</dc:creator>
  <dc:description/>
  <dc:language>en-US</dc:language>
  <cp:lastModifiedBy>damon.skelton</cp:lastModifiedBy>
  <dcterms:modified xsi:type="dcterms:W3CDTF">2005-08-15T13:02:18Z</dcterms:modified>
  <cp:revision>24</cp:revision>
  <dc:subject/>
  <dc:title>No Slide Title</dc:title>
</cp:coreProperties>
</file>